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77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3724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24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FD3A52-8E44-4D91-838F-F74D941D63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5074B1-D4AD-4B81-A6DF-C5EB9CF2BD4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DFCB87-7E8D-458B-A544-E0EA8457512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359C42-CCA8-4767-A401-8EA339D04F8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7BC1BD-BE45-4319-8C2C-19EDC597FA4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D69732-7CE0-4516-8A62-B2CBAB4CE4D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B76C08-1CC4-4495-9226-1D5A8AA36C5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49438B-99A4-4E31-989F-BDE1DC69AA6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C76298-2C7D-43C9-BA3D-9C2C3A7A3A4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2FA4A-BD4A-4DA6-BE0E-92DB90CFC5E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F31E2-F5EF-43C4-B300-1F393603655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61149-F04C-48DB-A217-5FB2883F599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148B1-AECC-412C-9D63-6C422D77B7A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1AC953-C903-450A-A718-9F2071FEA84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D441B-5B1E-4D4E-B16D-A24763EEE15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39DCE-97DD-47E2-B37A-2BE5F5E3D77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E17752-2F4F-4137-B62D-1B9FA8448F8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495C5-206A-4DDD-B379-AD90FF7041C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92BE44-F8AD-4914-B7A9-036FEED7C6D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1FA095-0BC1-415B-8904-C9403239BFE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6A1658-9869-4643-8E98-8F95EFCFF90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FB9E8-3F4C-43A1-8EA9-4204107D49B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735A2-0774-4A14-9FD4-8A58DE161F1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A674A-4F97-48BC-A6D6-098F8334775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000080" y="728640"/>
            <a:ext cx="485928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E4C-E388-4B64-844F-E9115276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C55-2506-45EA-BB3F-2B464F7D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1B6-49B7-49DE-A9D1-113C2D2A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0B3-8695-44DA-9B5A-303D6F66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A4E-21AF-4122-BD46-06F5F1E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762-F687-4A57-B956-2E42C78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D1D-D65A-47BE-9D56-9DDD0C5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622-CB99-4708-9CE4-AEEB61F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53F-1D67-4834-99B8-6382A49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240-09F7-44E0-B9F7-CD68B6B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534-AE65-4090-BA18-3F7126C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371-5219-4BCB-9D30-B770B3E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86DA3F-3525-4D91-B937-123CFD82DD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806436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GRAMMA REGIONALE DELLA PREVENZIONE 2020-2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971640" y="134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11280" y="2421000"/>
            <a:ext cx="8064360" cy="459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enzione degli Incidenti Domes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968400" cy="747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4221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6002280" y="3645000"/>
            <a:ext cx="3141720" cy="32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3924360" cy="836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250920" y="378936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e14829"/>
                </a:solidFill>
                <a:latin typeface="Times New Roman"/>
              </a:rPr>
              <a:t>La Prevenzi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e14829"/>
                </a:solidFill>
                <a:latin typeface="Times New Roman"/>
              </a:rPr>
              <a:t>degli eventi evitab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e14829"/>
                </a:solidFill>
                <a:latin typeface="Times New Roman"/>
              </a:rPr>
              <a:t>(la vita cambia, cambia la ca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79280" y="3333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752480" y="16002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33520" y="838080"/>
            <a:ext cx="830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Non riesco ancora a camminare, ma posso gattonare e appendermi a tutto ciò che penzola… anche al filo del ferro da stiro. </a:t>
            </a:r>
            <a:br>
              <a:rPr sz="2800"/>
            </a:b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Devi proprio tenermi d’occhio e non lasciarmi mai da so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752480" y="16002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33520" y="83808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28600" y="137160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Chissà cosa succede se infi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 </a:t>
            </a: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le dita qui dentro…adesso ci provo.</a:t>
            </a:r>
            <a:br>
              <a:rPr sz="2800"/>
            </a:b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Se usi un copri presa non ci entrano né le dita né le parti piccole dei miei giocatt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12760" y="838080"/>
            <a:ext cx="73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7f3825"/>
                </a:solidFill>
                <a:latin typeface="Arial Rounded MT Bold"/>
              </a:rPr>
              <a:t>La vita cambia, cambia la ca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2924280"/>
            <a:ext cx="71294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37335"/>
                </a:solidFill>
                <a:latin typeface="Lucida Calligraphy"/>
              </a:rPr>
              <a:t>Consigli utili per proteggere il tuo bambino dagli incidenti dome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37335"/>
                </a:solidFill>
                <a:latin typeface="Lucida Calligraphy"/>
              </a:rPr>
              <a:t>12 - 24 mes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9480" y="68580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Chissà chi gioca in cortile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Mi sporgo dal balcone per guardare. </a:t>
            </a:r>
            <a:br>
              <a:rPr sz="2800"/>
            </a:b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Per fortuna non ho niente su c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appoggiarmi, sarebbe molto pericoloso pe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981080" y="533520"/>
            <a:ext cx="693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Io gioco a nascondino dentro ad un mobile perché nessuno ha pensato di usare i blocca ant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Entrare ci sono entrato, speriamo di farcela ad usci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62064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Come d’accordo hai messo fuori dalla mia portata i farmaci, i detersivi, gli oggetti pericolosi, ma lo sai che anche molte piante da appartamento sono velenose se ingeri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2057400"/>
            <a:ext cx="853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rcRect l="0" t="8005" r="0" b="0"/>
          <a:stretch/>
        </p:blipFill>
        <p:spPr>
          <a:xfrm>
            <a:off x="0" y="3505320"/>
            <a:ext cx="525780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1143000" y="91440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Non credevo fosse così complicato reggersi in piedi.</a:t>
            </a:r>
            <a:br>
              <a:rPr sz="2800"/>
            </a:b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Per favore elimina ogni ostacolo dal mio cammino e, già ce si sei, copri anche gli spig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112760" y="838080"/>
            <a:ext cx="73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7f3825"/>
                </a:solidFill>
                <a:latin typeface="Arial Rounded MT Bold"/>
              </a:rPr>
              <a:t>La vita cambia, cambia la ca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2438280"/>
            <a:ext cx="74883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37335"/>
                </a:solidFill>
                <a:latin typeface="Lucida Calligraphy"/>
              </a:rPr>
              <a:t>Consigli utili per proteggere il tuo bambino dagli incidenti dome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37335"/>
                </a:solidFill>
                <a:latin typeface="Lucida Calligraphy"/>
              </a:rPr>
              <a:t>24 mesi e ol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4920" y="2043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Adoro tutti gli animali, ma non tutti adorano 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350532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04920" y="160020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Se il manico di questa pentola fosse girato verso l’interno io non riuscirei a prenderlo, e se questi fornelli fossero protetti da una barriera io non potrei bruciar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57160" y="853920"/>
            <a:ext cx="73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7f3825"/>
                </a:solidFill>
                <a:latin typeface="Arial Rounded MT Bold"/>
              </a:rPr>
              <a:t>La vita cambia, cambia la ca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26920" y="2438280"/>
            <a:ext cx="7201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37335"/>
                </a:solidFill>
                <a:latin typeface="Lucida Calligraphy"/>
              </a:rPr>
              <a:t>Consigli utili per proteggere il tuo bambino dagli incidenti dome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37335"/>
                </a:solidFill>
                <a:latin typeface="Lucida Calligraphy"/>
              </a:rPr>
              <a:t>0 – 6 mes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427640" y="5805360"/>
            <a:ext cx="20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00640" y="3254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66680" y="8380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Io sono molto forte, ma se i mobili sono ben fissati al muro certo che non riesco a farmeli cadere addo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0" y="2666880"/>
            <a:ext cx="4724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066680" y="83808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Devo proprio spiegar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tutto i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Gli apparecchi elettrici non devono essere posizionati vicino all’acqua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895480"/>
            <a:ext cx="47242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7524720" cy="602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37335"/>
                </a:solidFill>
                <a:latin typeface="Arial Rounded MT Bold"/>
              </a:rPr>
              <a:t>...Inf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f3825"/>
                </a:solidFill>
                <a:latin typeface="Arial Unicode MS"/>
              </a:rPr>
              <a:t>	</a:t>
            </a: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Un‘ultima considerazio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7f3825"/>
                </a:solidFill>
                <a:latin typeface="Arial Unicode MS"/>
              </a:rPr>
              <a:t>	</a:t>
            </a:r>
            <a:r>
              <a:rPr b="1" lang="it-IT" sz="2400" spc="-1" strike="noStrike">
                <a:solidFill>
                  <a:srgbClr val="7f3825"/>
                </a:solidFill>
                <a:latin typeface="Arial Unicode MS"/>
              </a:rPr>
              <a:t>i genitori sono i principali, ma non gli unici, attori della prevenzione</a:t>
            </a: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 degli incident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	</a:t>
            </a: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gli altri sono i nonni o altre persone (baby sitter) che si prendono cura del bambino, i fratelli più grandi, che devono essere responsabilizzati (ad esempio insegnando loro a non lasciare in giro giocattoli pericolosi per il piccolo, a non prenderlo in braccio vicino a finestre o balaustre, a non somministrargli cibi non adatti, a non trattarlo come un giocattolo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	</a:t>
            </a: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infine, se siete in visita da amici, non perdete d'occhio il vostro bambino e, soprattutto se lo lasciate temporaneamente in casa d'altri, fate prima un giro di ricognizione nel loro ambiente dome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7f3825"/>
                </a:solidFill>
                <a:latin typeface="Arial Unicode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8200" cy="47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7f3825"/>
                </a:solidFill>
                <a:latin typeface="Times New Roman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429000" y="29718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62120" y="182880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Per la mia sicurezza devo dormire sulla schiena, su un materasso rigido e senza cusc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04920" y="20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7432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371600" y="9144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Non lasciatemi da solo su una superficie elevata da terra perché, da un giorno all’altro, imparo a muovermi e rischio di cad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36232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752480" y="160020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Che bello fare il bagno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ma attenzione a non farmi l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752480" y="16002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823400" y="685800"/>
            <a:ext cx="55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7f3825"/>
                </a:solidFill>
                <a:latin typeface="Lucida Calligraphy"/>
              </a:rPr>
              <a:t>Sono appena nato e ho già</a:t>
            </a:r>
            <a:br>
              <a:rPr sz="3200"/>
            </a:br>
            <a:r>
              <a:rPr b="1" lang="it-IT" sz="3200" spc="-1" strike="noStrike">
                <a:solidFill>
                  <a:srgbClr val="7f3825"/>
                </a:solidFill>
                <a:latin typeface="Lucida Calligraphy"/>
              </a:rPr>
              <a:t>… una fame da lu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514600" y="2895480"/>
            <a:ext cx="3276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ma se mi dai il latte con il biber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controlla sempre la temperatura per non farmi ustion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12760" y="838080"/>
            <a:ext cx="73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7f3825"/>
                </a:solidFill>
                <a:latin typeface="Arial Rounded MT Bold"/>
              </a:rPr>
              <a:t>La vita cambia, cambia la ca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00000" y="2421000"/>
            <a:ext cx="705816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37335"/>
                </a:solidFill>
                <a:latin typeface="Lucida Calligraphy"/>
              </a:rPr>
              <a:t>Consigli utili per proteggere il tuo bambino dagli incidenti dome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37335"/>
                </a:solidFill>
                <a:latin typeface="Lucida Calligraphy"/>
              </a:rPr>
              <a:t>6 - 12 mes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52480" y="16002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67080" y="2666880"/>
            <a:ext cx="487692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28600" y="11430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Se le scale non hanno una barriera io posso buttarmi giù in un battiba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2860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37335"/>
                </a:solidFill>
                <a:latin typeface="Arial Rounded MT Bol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52480" y="16002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14600" y="76212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7f3825"/>
                </a:solidFill>
                <a:latin typeface="Lucida Calligraphy"/>
              </a:rPr>
              <a:t>Io sono curioso e metto in bocca tutto quello che trovo: non lasciare alla mia portata farmaci, detersivi e liqu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42:09Z</dcterms:created>
  <dc:creator>episan</dc:creator>
  <dc:description/>
  <dc:language>en-US</dc:language>
  <cp:lastModifiedBy>GIACOMO MANCA</cp:lastModifiedBy>
  <dcterms:modified xsi:type="dcterms:W3CDTF">2022-10-20T10:29:26Z</dcterms:modified>
  <cp:revision>202</cp:revision>
  <dc:subject/>
  <dc:title>INCONTRI CON I GENITORI</dc:title>
</cp:coreProperties>
</file>